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988A-176A-4E80-8658-1A974680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E94F-5718-4BE4-9EF7-07CA54E9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C3DF-801E-4193-9959-123C60EFE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9EFE-F373-42CB-BCC5-058C89A1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FAD2-02A6-4B27-A528-8C9503C1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879A-7B7D-4265-A20E-34C05389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DC73-1AB0-457A-818A-71625796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A4BA-E7E0-460E-9E57-0CFE552E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7754-797E-449E-B59E-87A09575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A689-C0D5-45EE-9FE7-85693BBB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85CF-F24F-4BF8-B75A-E2D4C65E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A767-7D70-41B5-A2E7-968A5315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58AC-DF5E-4343-BBCE-200BE16AC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9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A: Unit 3 Problem Solv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Characteristics of data &amp;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Information Processing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Characteristics of audi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Structure of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Decision-making in organis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data &amp;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quisition: Collecting data to solve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 Data, direct observation, surveys, sampling, interviews, measurement &amp;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ary data, published material, books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data &amp;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code r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uch scr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era, sensor, voice 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data &amp;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ual or electro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oni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ableness che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 consis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 che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 che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 down list boxes, text checks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data &amp;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software to transform data into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ing, querying, sorting, drawing, mixing, charting, summar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 of software tools used in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 for manipulat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ques for manipulat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ng software f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e of use and efficiency &amp;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data &amp;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Sti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’s, DV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t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ip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data &amp;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rie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very of stored data for updating or manipul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retrieval requires using filenames and directories that are meaning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data &amp;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ware devi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on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ri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peakers, proj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data &amp;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er of information to people who requir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 applications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eoconfere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ce 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x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data &amp;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osal or Arch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sing of unwanted file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erring files that are no longer active but are still requi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ctive files are transferred (archived) to an auxiliary storag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Audi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is used to: Persuade, inform, educate or entert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eets needs of audiences which diff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 &amp; g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 level &amp;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 to acquire data &amp; transform into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 efficienc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decreasing data-entry time by using a flatbed scanner (hard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the accuracy of data by using improved electronic data-validation techniques (software) and/or manual data-validation techniques (procedu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ing the effort required to manipulate data by using a relationa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e of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ed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e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ption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sion-making in organis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ior Management, strategic, long term goals, highly summarised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dle management, tactical, problems affecting running of org; summarised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al management, day-day operational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al workers’, day-day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effecti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file access procedures and encryption software to increase the security of records (procedures and softwa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r>
              <a:rPr b="0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new equipment to improve the readability and aesthetics of the information (hardware and softwa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 system personnel to provide information of a high quality (people)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ation System Components,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nel or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w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processor and mother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 &amp; 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, (connect system unit to peripheral devi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pherals and secondary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Components con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, 4 main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ng or System software, eg Windows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ty software, eg. Nor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ing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softw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 the shelf Vs purpose desig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d software pa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System 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inimise time &amp; effort required to carry out IP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 accurate, appropriate &amp; complete inf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racteristics of data &amp;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Vs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ources of data: Primary Vs Second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Valuable or Data Integ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Sui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ccu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Timel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Freedom from bias, Keyw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data &amp;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acteristics of inform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ev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u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bi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data &amp;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Processing Step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word: ASIVCMSOC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formationsyste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5T22:14:30Z</dcterms:created>
  <dc:creator>KB</dc:creator>
  <dc:description/>
  <dc:language>en-US</dc:language>
  <cp:lastModifiedBy>Kelvin Baird</cp:lastModifiedBy>
  <dcterms:modified xsi:type="dcterms:W3CDTF">2006-12-28T22:39:34Z</dcterms:modified>
  <cp:revision>16</cp:revision>
  <dc:subject/>
  <dc:title>Criterion 1: Knowledge of the types and characteristics of information systems and networks </dc:title>
</cp:coreProperties>
</file>